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wmf" ContentType="image/x-wmf"/>
  <Override PartName="/ppt/media/image29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9144000" cy="6858000"/>
  <p:notesSz cx="9942513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0" y="0"/>
            <a:ext cx="9943200" cy="68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dt" idx="46"/>
          </p:nvPr>
        </p:nvSpPr>
        <p:spPr>
          <a:xfrm>
            <a:off x="5632560" y="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Img"/>
          </p:nvPr>
        </p:nvSpPr>
        <p:spPr>
          <a:xfrm>
            <a:off x="3271320" y="510840"/>
            <a:ext cx="34038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ftr" idx="47"/>
          </p:nvPr>
        </p:nvSpPr>
        <p:spPr>
          <a:xfrm>
            <a:off x="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 type="sldNum" idx="48"/>
          </p:nvPr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8C89-56E5-4C22-874D-4FB0EA4DED6F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AE1E-1C91-4DF7-85CA-88A30F6EF2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60B6-0A1E-4CBD-ACF7-E2E96D962F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07C8-87DB-4F97-A298-517461AB9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AA11A-AD5E-4DF3-B82D-AA2113E14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B19A-6E77-46C6-90EB-120A83A4B1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7568-C88A-4397-9D1A-42F64F3BC5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1847-B756-4842-BC0A-E1D6575C9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BDA6-977A-48FF-B299-B18E8B52A6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There are 11 expert groups among which one is the one on fragility and crisis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4C93-998C-40B0-A97E-03880FF457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5A27-836C-40A0-B9EE-6D8FD601B6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3800" cy="255276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95040" y="3231720"/>
            <a:ext cx="7953480" cy="30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5632560" y="6462720"/>
            <a:ext cx="43099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6BB4-2B3D-430B-B567-95B86C5E14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80D6-C7F7-407E-9489-CF85744A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DDA0-CD2D-469E-B095-B95A7E29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6EE36-AE26-4578-8A50-C21CDC9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54D28-6E5D-4D30-98C1-F9D077ECD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9ABE1-937C-43D6-8EDE-CB6F2E3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0AA9B-7EFC-4CAA-81D7-C5CED43B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11835-F14B-493F-A382-FD64ED56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19A37-C5FB-434B-BBBC-F9993CDB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B3F74-786D-4EF2-A963-A140916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895E0-B8E3-4810-8FF2-2F88BA22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CDA21-C8CE-4BA8-AF41-BFC0AE431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87DDD-C507-435C-BB50-EE6FCBDA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9E58-FF60-4F57-998F-AAB0A08A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48B8F2-726A-4B44-AF15-289B1113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81C58-DEDF-461E-81D4-6956A3E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941FC-17D2-4092-8D0C-B252F4F8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5FC8F-F1F9-4CBD-936F-A466C807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44785-D5D8-4C95-8E98-E7C1AC85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A527-375E-45B3-8345-8D739C53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03DF-C68B-4EB5-882D-E4895BAD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2B22B4-449F-446E-A173-D5634AC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4DAEA-ED15-47F2-A6A5-556452B5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1BB2-BEE0-4DC9-AFE2-6BE9A27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6D9-836B-415F-8098-15B5DD58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82BD5-B2EE-47A3-B85A-6C114A963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E2858C-1DA3-40FC-8C35-D616A602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F03E6B-D56F-4935-8C12-A0515797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374D6-29E9-41FF-A73F-B7762AD8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2CDC0-A3F0-4957-A268-7A8E47A5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CD5C8-91C5-440B-B312-CBF71CFC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1226E-2421-41FD-AC40-7706180B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FABB-AB7E-4C85-B1B8-8B66E8F2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197D0-5183-41A7-A675-C8F98CCB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3150C-5B13-4044-A71A-E7B985EA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5544-F87C-4F3A-A806-0C73659E4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1D686D-F523-4D1D-8440-66ED0B7E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D7121-6531-4961-9F60-690571390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B1879-D433-4997-8A28-083CC14DA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9899D8-20CB-47FC-B564-6D6B129F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DF52D2-0B2A-41A9-9D18-7D553818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26B91-73BF-4910-B969-17E014E0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E03EB-DC8C-4CFB-9333-79449D28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EFC17-4C44-4B10-B0AD-354963C10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84D3D-B793-4A4D-9892-30DF91D3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8AA2C-B3C6-4C6E-B1A5-20234A8B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E49C-727E-40D2-89E5-AD6F4A5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A45FD-EB1A-478B-AE9B-0C06BDD5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7D829-257C-42A7-806F-D9AC894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0F2DD3-73E4-464F-9010-A2D9E93B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1B6043-23D3-41FA-ADF5-51D8A5B1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23499C-D6BA-4B25-B6B9-2E9770E1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3C10C8-B035-4C47-986F-CED1AC9C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556C1-1E57-43F1-8376-57A2B49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F868F-48DB-45E8-8041-B161AD99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85BF8-1A27-4B6F-8105-2BB10F12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8FD8A-C464-4F00-8A82-D0036376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2112-5618-4492-A6C7-4DA79546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E38E1-2ED6-4941-8E0F-2BD063EE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51EC33-79EF-4422-AA9F-608F023C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70C69-4BD6-4617-B07A-5B3603EA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2F8BB-5CA7-4F84-A8ED-A7234A6A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7CEA7-A2CC-49F1-8265-A7687821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0FEB1-6610-42A6-8A9C-E33B2B0F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6CD7F-BE73-49CB-BF7E-989957F3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915FE-05F9-4ABC-AB77-1915F5DE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7EF4BB-FA40-4BDC-816C-ED4601A5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66551-C6A5-449D-A2B6-C43566AC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27EA-0A81-4DE6-8B1D-934CCD8C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7A8D-6D73-479B-9A7D-0269F1CF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85B3A-39D2-44F9-BD66-CC9D9353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A2D7A-59D0-44EC-95E5-2CAE299F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D56B72-6E68-4DEF-9E94-DD150CF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221020-05C1-45F5-9EF9-353770D7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4189F-07EB-486E-9CC6-26E54DB3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69B3A1-0131-4CBF-9157-2DD6C135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6287D-5A0D-473A-869A-34590C26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27BC8-2DF5-4487-8688-62E284F0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DC29E-9E20-4BC5-A05D-ED20B9CC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233F-CB56-4785-A277-116300FD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E0527-2944-4BB1-95B2-B16B2EC8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5E96F-6EA1-49A1-8768-BF42A826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F6BA08-48F5-44F5-AE9F-8112AAFE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7A1C5-3990-43BE-8987-8F5AFC24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A81348-162E-4CBA-A542-F7FFE942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2A6F87-AC3C-4A2C-8002-B44E8905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EAC0EE-DAE1-4168-842F-2E1DD324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759098-AAE1-4B17-9F2B-59E6C7AC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F274A-8B1C-44C8-B669-227CD8C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0E9BA-819D-446B-B0F9-82F1B22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A128-6D2A-4A13-90C0-69BF1226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07974A-492D-4DB0-8FE4-F129BEEC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A5DE-C94C-42F4-AAB9-44A60722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DC3F-A2D6-4B96-8128-98DBA262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2230D-BDE6-4D02-A138-C757EC9C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4E25-7712-4D1A-9DC0-7739F87A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8E98-16F9-44D7-AA35-4395D42F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F6C0-11A5-4DF4-81D4-19C6D717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6E66-E33A-4852-8221-D4476D71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43E26-020A-41EA-B8D8-D968F7F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A301B-6426-46A2-B6CA-6EA43262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FE9A-59C7-43AB-BDCE-1F69D988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5B85-0B06-4122-A7E3-C349D274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85B97-8954-4953-8FDB-BD0EA065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3E1-2B3C-4344-92EB-E10626F0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39A02-EC27-4F0C-9AAD-7EB747D2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7DC8-FE77-4312-B39F-3274B4A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D783F-D3E0-4F14-BD65-B427B3B5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2A2E-9C4A-4E38-B033-4786D357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5B60-A37E-412E-90BA-3FC1C2B7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72E45-AD55-4341-8CEA-218D75289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21D5C-9BE3-4B76-A46F-9080047FE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8E49F-089A-46DF-AC45-D391454D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7C66-3BA5-4157-AE4A-419421FD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6E387-005F-430A-BFE6-FE8F5C1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6A0C-5729-4CDB-95E1-2B19ABC7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30C13-D1A5-4CB4-85C7-C346CA3E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60D86-45F2-4DD8-8610-B7E03064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22B2C-770F-43C7-98B6-2B882CC5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89E20-1A8F-40F9-93AF-5973256A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1325-118F-47AA-85BC-31F7259F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207EB-F7D1-49A2-B47D-8C758B65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39A72-6BB5-4F58-A95E-8154BAE1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3E9CD-F25D-4EFC-B4C3-7C272A67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6439C-25A3-40EA-A9EF-280A2523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9E902-75DA-4DF4-9A76-E3C8EECF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0C9-53F0-49EE-B91C-0DC6CA4C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377F7-6002-440C-A149-4CB65CB4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70865-F2B1-4977-8500-1EE1F4E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26E3C-A057-43E9-BBE5-DD219215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CAC1-77D6-4C31-A028-315D71B3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EB328-CF8C-45AA-A271-5CBE099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AD2A-028E-4600-9442-690FE168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151C-4636-4F72-BACF-D0CB229F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762AA-F9B4-4FCC-851F-C3AF1EE9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0EB6B-34C0-4431-8B40-830703DF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BEEA4-964A-4D8B-9487-6D005F6F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65A2-7904-45BA-BA9C-E877DD0B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05F15-E984-462C-BADC-3A22DDF46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5FB06-C54B-4AF1-905C-3838BC3C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7E71A-4C12-419C-948F-0C47EDD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78497-3431-44AB-857D-1BB69E8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4598-D16F-4772-BA6D-9B9E4A2E8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A140B-34D2-4765-AB18-07C1E45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CE5D1-68E4-45B0-83F8-A9F1F24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FEE86-C4D7-49D0-81EA-B48BF887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30F3-5D99-4FEF-9CB0-A2F9C03C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C0FA1-58F3-4F3D-B731-1682A9A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5C9E-7F0E-414D-B777-2669B33E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67075-4569-436B-B166-08C331D5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414F-2AB6-4C17-9447-5DF25900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7A54-388B-4010-A517-47124BB7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CDC9-CEF9-4595-897A-721571A7E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68935-41E0-459F-A660-22713B65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AF02E-7051-453F-AE8A-1F61AB1B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02B1C-5310-455F-9580-742727BF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19D49-E763-4127-9183-91D6445F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92061-11A3-4334-A640-C6551044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13F9F-B6E1-4702-8B13-9DDC54A6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A884-6E19-4F65-A616-A5E553B3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7CB3-3889-4F6E-8666-648632D0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09746-8694-4965-9031-513AFCF6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79BA4-99C8-4FDD-ADC3-25C6C547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FFD7A-C404-40F2-AD51-13C6A13D9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960DD-C8AF-41A4-B73D-1E06A2C0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D29B0-09C6-4576-82D0-38C2DDA13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46E03-1A52-45DD-93FF-8B722B4E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8D438-51D8-4659-96DC-617B5A2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B21A-B404-4BA3-87AE-D0918F9E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DA2E2-A56B-40C9-923C-3A3A7FAF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2F13-A47F-42F4-958C-B55FF2D4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71433-FE4C-4AE1-972C-402E37C4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91B42-D7BC-4D7E-B477-1790E84A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1AE22-2E3F-4619-9F0F-AF5BE400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35E82-3440-42DA-9452-A58B82B2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FB7CE-5244-483C-91DC-D716723A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41AA-B5E0-47B5-AECE-7D38D8F5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0B787-9EDC-4A86-941A-78787A3B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DEDC8-8DD9-4250-828B-09883D688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81812-1815-46B6-A877-DD8B8E89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666E0-DBC9-4AAB-989E-FC2C82A0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06FB-6517-42B9-8383-77C5593EE2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9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3A6C6-54F8-499A-9AC7-64B7F833349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3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392-FE5D-40FC-A05A-C82DF30A8C1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8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1F35-399E-4321-A0C0-0AE6B0F5BA88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316-5FA9-43E0-A1E6-97DD7013D2D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7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E35-B4A1-4FD9-B9F9-4D5F7FAAAB2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15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957D-6128-42E6-A783-889740E180B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t">
            <a:normAutofit/>
          </a:bodyPr>
          <a:p>
            <a:pPr marL="239760" indent="-239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22360" indent="-20016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803160" indent="-160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123920" indent="-160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46120" indent="-1602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46120" indent="-1602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46120" indent="-1602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320760"/>
                <a:tab algn="l" pos="641520"/>
                <a:tab algn="l" pos="961920"/>
                <a:tab algn="l" pos="1282680"/>
                <a:tab algn="l" pos="1603440"/>
                <a:tab algn="l" pos="1924200"/>
                <a:tab algn="l" pos="2244600"/>
                <a:tab algn="l" pos="2565360"/>
                <a:tab algn="l" pos="2886120"/>
                <a:tab algn="l" pos="3206880"/>
                <a:tab algn="l" pos="3527280"/>
                <a:tab algn="l" pos="3848040"/>
                <a:tab algn="l" pos="4168800"/>
                <a:tab algn="l" pos="4489560"/>
                <a:tab algn="l" pos="4809960"/>
                <a:tab algn="l" pos="5130720"/>
                <a:tab algn="l" pos="5451480"/>
                <a:tab algn="l" pos="5772240"/>
                <a:tab algn="l" pos="6093000"/>
                <a:tab algn="l" pos="6413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Helvetica Neue"/>
                <a:ea typeface="ヒラギノ角ゴ ProN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Helvetica Neue"/>
                <a:ea typeface="ヒラギノ角ゴ ProN W3"/>
              </a:rPr>
              <a:t>06/02/20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Helvetica Neue"/>
                <a:ea typeface="ヒラギノ角ゴ ProN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925B-8C96-43F9-90D2-C5B932147D78}" type="slidenum">
              <a:rPr b="0" lang="en-US" sz="800" spc="-1" strike="noStrike">
                <a:solidFill>
                  <a:srgbClr val="898989"/>
                </a:solidFill>
                <a:latin typeface="Helvetica Neue"/>
                <a:ea typeface="ヒラギノ角ゴ ProN W3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7B87-BD41-4DE3-9006-03111CB50BF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2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0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6/02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E7F8-58B8-4511-AFF7-4CAA8D757E5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4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06/02/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B7BB-94D9-4C25-8D66-8959830B5CAB}" type="slidenum">
              <a:rPr b="0" lang="en-GB" sz="1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19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361B-0A36-4555-AA42-43AFA4568CF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263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42C-B240-4726-B37C-9010BBD2EB7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0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EC22-FC0D-405C-93A0-6E2406E4B830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351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06/02/2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3E40-4558-407C-9A1C-3195C37944C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13.pn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slideLayout" Target="../slideLayouts/slideLayout61.xml"/><Relationship Id="rId3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13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8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78920" y="1989000"/>
            <a:ext cx="88362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400" spc="-1" strike="noStrike">
                <a:solidFill>
                  <a:srgbClr val="ffd624"/>
                </a:solidFill>
                <a:latin typeface="Verdana"/>
              </a:rPr>
              <a:t>How to continue our learning journey?</a:t>
            </a:r>
            <a:endParaRPr b="1" lang="en-US" sz="5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0" y="3716280"/>
            <a:ext cx="91440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ihaela Haliciu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EVCO 07 – Fragility and Resilience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G DEVCO - EuropeAid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66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79280" y="1341000"/>
            <a:ext cx="8640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BE" sz="3200" spc="-1" strike="noStrike">
                <a:solidFill>
                  <a:srgbClr val="0f5494"/>
                </a:solidFill>
                <a:latin typeface="Verdana"/>
              </a:rPr>
              <a:t>The Power of the Written Word: </a:t>
            </a:r>
            <a:br>
              <a:rPr sz="3200"/>
            </a:br>
            <a:r>
              <a:rPr b="1" lang="fr-BE" sz="2400" spc="-1" strike="noStrike">
                <a:solidFill>
                  <a:srgbClr val="ff0000"/>
                </a:solidFill>
                <a:latin typeface="Verdana"/>
              </a:rPr>
              <a:t>EU Staff Handbook for operating in situations of conflict and fragility</a:t>
            </a:r>
            <a:br>
              <a:rPr sz="2400"/>
            </a:b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To compile 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To gather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f5494"/>
                </a:solidFill>
                <a:latin typeface="Verdana"/>
              </a:rPr>
              <a:t>Living document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f5494"/>
                </a:solidFill>
                <a:latin typeface="Verdana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NEW: </a:t>
            </a:r>
            <a:r>
              <a:rPr b="0" i="1" lang="en-US" sz="3000" spc="-1" strike="noStrike">
                <a:solidFill>
                  <a:srgbClr val="0f5494"/>
                </a:solidFill>
                <a:latin typeface="Verdana"/>
              </a:rPr>
              <a:t>Conflict Sensitivity Resource Pack</a:t>
            </a:r>
            <a:endParaRPr b="0" i="1" lang="en-US" sz="30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lvl="1" marL="586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5494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f5494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Right Arrow 1"/>
          <p:cNvSpPr/>
          <p:nvPr/>
        </p:nvSpPr>
        <p:spPr>
          <a:xfrm>
            <a:off x="4478400" y="4869000"/>
            <a:ext cx="977760" cy="215640"/>
          </a:xfrm>
          <a:prstGeom prst="rightArrow">
            <a:avLst>
              <a:gd name="adj1" fmla="val 50000"/>
              <a:gd name="adj2" fmla="val 500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Right Arrow 2"/>
          <p:cNvSpPr/>
          <p:nvPr/>
        </p:nvSpPr>
        <p:spPr>
          <a:xfrm>
            <a:off x="4478400" y="4869000"/>
            <a:ext cx="814320" cy="215640"/>
          </a:xfrm>
          <a:prstGeom prst="rightArrow">
            <a:avLst>
              <a:gd name="adj1" fmla="val 50000"/>
              <a:gd name="adj2" fmla="val 50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1" name="Right Arrow 3"/>
          <p:cNvSpPr/>
          <p:nvPr/>
        </p:nvSpPr>
        <p:spPr>
          <a:xfrm>
            <a:off x="4140360" y="4869000"/>
            <a:ext cx="977760" cy="215640"/>
          </a:xfrm>
          <a:prstGeom prst="rightArrow">
            <a:avLst>
              <a:gd name="adj1" fmla="val 50000"/>
              <a:gd name="adj2" fmla="val 500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42" name="Picture 12" descr=""/>
          <p:cNvPicPr/>
          <p:nvPr/>
        </p:nvPicPr>
        <p:blipFill>
          <a:blip r:embed="rId1"/>
          <a:stretch/>
        </p:blipFill>
        <p:spPr>
          <a:xfrm>
            <a:off x="6480" y="0"/>
            <a:ext cx="1328760" cy="98100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1" descr=""/>
          <p:cNvPicPr/>
          <p:nvPr/>
        </p:nvPicPr>
        <p:blipFill>
          <a:blip r:embed="rId2"/>
          <a:stretch/>
        </p:blipFill>
        <p:spPr>
          <a:xfrm>
            <a:off x="5162400" y="1828800"/>
            <a:ext cx="4353120" cy="471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7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080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f5494"/>
                </a:solidFill>
                <a:latin typeface="Verdana"/>
              </a:rPr>
              <a:t>Who is it for?</a:t>
            </a:r>
            <a:endParaRPr b="1" lang="en-US" sz="3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915920"/>
            <a:ext cx="56275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Written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by EU staff for development practitioner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For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 newly deployed EU staff </a:t>
            </a: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to FCS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f5494"/>
                </a:solidFill>
                <a:latin typeface="Verdana"/>
              </a:rPr>
              <a:t>Might be shared with </a:t>
            </a: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other stakeholders (M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2d2d8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0f5494"/>
                </a:solidFill>
                <a:latin typeface="Verdana"/>
              </a:rPr>
              <a:t>Complementary </a:t>
            </a:r>
            <a:r>
              <a:rPr b="0" lang="fr-BE" sz="2000" spc="-1" strike="noStrike">
                <a:solidFill>
                  <a:srgbClr val="0f5494"/>
                </a:solidFill>
                <a:latin typeface="Verdana"/>
              </a:rPr>
              <a:t>to CSDP handbook(s)</a:t>
            </a: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46" name="Picture 6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992320" cy="468000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8" descr=""/>
          <p:cNvPicPr/>
          <p:nvPr/>
        </p:nvPicPr>
        <p:blipFill>
          <a:blip r:embed="rId2"/>
          <a:stretch/>
        </p:blipFill>
        <p:spPr>
          <a:xfrm>
            <a:off x="0" y="3240"/>
            <a:ext cx="13287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Let's continue our learning journey…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457200" y="220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Verdana"/>
              </a:rPr>
              <a:t>NEXT STAT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50" name="Picture 3" descr=""/>
          <p:cNvPicPr/>
          <p:nvPr/>
        </p:nvPicPr>
        <p:blipFill>
          <a:blip r:embed="rId1"/>
          <a:stretch/>
        </p:blipFill>
        <p:spPr>
          <a:xfrm>
            <a:off x="2556000" y="2762280"/>
            <a:ext cx="381636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f5494"/>
                </a:solidFill>
                <a:latin typeface="Verdana"/>
              </a:rPr>
              <a:t>Content</a:t>
            </a: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68" name="Content Placeholder 2" descr=""/>
          <p:cNvPicPr/>
          <p:nvPr/>
        </p:nvPicPr>
        <p:blipFill>
          <a:blip r:embed="rId1"/>
          <a:stretch/>
        </p:blipFill>
        <p:spPr>
          <a:xfrm>
            <a:off x="281160" y="2279520"/>
            <a:ext cx="8345160" cy="34513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4763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Title 1" descr=""/>
          <p:cNvPicPr/>
          <p:nvPr/>
        </p:nvPicPr>
        <p:blipFill>
          <a:blip r:embed="rId1"/>
          <a:stretch/>
        </p:blipFill>
        <p:spPr>
          <a:xfrm>
            <a:off x="324000" y="1158840"/>
            <a:ext cx="8229600" cy="1182600"/>
          </a:xfrm>
          <a:prstGeom prst="rect">
            <a:avLst/>
          </a:prstGeom>
          <a:ln w="0">
            <a:noFill/>
          </a:ln>
        </p:spPr>
      </p:pic>
      <p:pic>
        <p:nvPicPr>
          <p:cNvPr id="671" name="Content Placeholder 2" descr=""/>
          <p:cNvPicPr/>
          <p:nvPr/>
        </p:nvPicPr>
        <p:blipFill>
          <a:blip r:embed="rId2"/>
          <a:stretch/>
        </p:blipFill>
        <p:spPr>
          <a:xfrm>
            <a:off x="438120" y="2481120"/>
            <a:ext cx="8248680" cy="3541680"/>
          </a:xfrm>
          <a:prstGeom prst="rect">
            <a:avLst/>
          </a:prstGeom>
          <a:ln w="0">
            <a:noFill/>
          </a:ln>
        </p:spPr>
      </p:pic>
      <p:pic>
        <p:nvPicPr>
          <p:cNvPr id="672" name="Content Placeholder 7" descr=""/>
          <p:cNvPicPr/>
          <p:nvPr/>
        </p:nvPicPr>
        <p:blipFill>
          <a:blip r:embed="rId3"/>
          <a:stretch/>
        </p:blipFill>
        <p:spPr>
          <a:xfrm>
            <a:off x="5430960" y="2133720"/>
            <a:ext cx="3438360" cy="38890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7" descr=""/>
          <p:cNvPicPr/>
          <p:nvPr/>
        </p:nvPicPr>
        <p:blipFill>
          <a:blip r:embed="rId4"/>
          <a:stretch/>
        </p:blipFill>
        <p:spPr>
          <a:xfrm>
            <a:off x="0" y="0"/>
            <a:ext cx="1476360" cy="98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0160" y="1181160"/>
            <a:ext cx="90154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6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f5494"/>
                </a:solidFill>
                <a:latin typeface="Verdana"/>
              </a:rPr>
              <a:t>Capacity4dev.eu = Capacity Development through Knowledge Sharing! </a:t>
            </a:r>
            <a:endParaRPr b="1" lang="en-US" sz="17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75" name="Picture 6" descr="Topics   capacity4dev_testuser"/>
          <p:cNvPicPr/>
          <p:nvPr/>
        </p:nvPicPr>
        <p:blipFill>
          <a:blip r:embed="rId1"/>
          <a:srcRect l="0" t="0" r="0" b="32162"/>
          <a:stretch/>
        </p:blipFill>
        <p:spPr>
          <a:xfrm>
            <a:off x="108000" y="1700280"/>
            <a:ext cx="2808360" cy="2587680"/>
          </a:xfrm>
          <a:prstGeom prst="rect">
            <a:avLst/>
          </a:prstGeom>
          <a:ln cap="sq" w="25560">
            <a:solidFill>
              <a:srgbClr val="000000"/>
            </a:solidFill>
            <a:miter/>
          </a:ln>
        </p:spPr>
      </p:pic>
      <p:sp>
        <p:nvSpPr>
          <p:cNvPr id="676" name="Rectangle 15"/>
          <p:cNvSpPr/>
          <p:nvPr/>
        </p:nvSpPr>
        <p:spPr>
          <a:xfrm>
            <a:off x="3130560" y="1700280"/>
            <a:ext cx="58341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Verdana"/>
                <a:ea typeface="Arial"/>
              </a:rPr>
              <a:t>DEVCO's main corporate KS tool </a:t>
            </a: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MS PGothic"/>
              </a:rPr>
              <a:t>acknowledged and welcomed by MS in the practitioners network 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Verdana"/>
                <a:ea typeface="Arial"/>
              </a:rPr>
              <a:t>4 Pillars</a:t>
            </a:r>
            <a:r>
              <a:rPr b="0" lang="fr-BE" sz="1400" spc="-1" strike="noStrike">
                <a:solidFill>
                  <a:srgbClr val="0f5494"/>
                </a:solidFill>
                <a:latin typeface="Verdana"/>
                <a:ea typeface="Arial"/>
              </a:rPr>
              <a:t>: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Consolidate knowledge and build institutional memory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Support thematic expertise, good practice and innovation exchang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Enable cross-learn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165960" indent="-165960">
              <a:lnSpc>
                <a:spcPct val="90000"/>
              </a:lnSpc>
              <a:spcAft>
                <a:spcPts val="601"/>
              </a:spcAft>
              <a:buClr>
                <a:srgbClr val="103c7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Consolidate multiple tools and communities of practice around a common environmen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77" name="Picture 3" descr=""/>
          <p:cNvPicPr/>
          <p:nvPr/>
        </p:nvPicPr>
        <p:blipFill>
          <a:blip r:embed="rId2"/>
          <a:stretch/>
        </p:blipFill>
        <p:spPr>
          <a:xfrm>
            <a:off x="3297240" y="4095720"/>
            <a:ext cx="2341440" cy="26528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981000"/>
          </a:xfrm>
          <a:prstGeom prst="rect">
            <a:avLst/>
          </a:prstGeom>
          <a:ln w="0">
            <a:noFill/>
          </a:ln>
        </p:spPr>
      </p:pic>
      <p:pic>
        <p:nvPicPr>
          <p:cNvPr id="679" name="Rectangle 9" descr=""/>
          <p:cNvPicPr/>
          <p:nvPr/>
        </p:nvPicPr>
        <p:blipFill>
          <a:blip r:embed="rId4"/>
          <a:stretch/>
        </p:blipFill>
        <p:spPr>
          <a:xfrm>
            <a:off x="5565600" y="4065480"/>
            <a:ext cx="2767320" cy="277992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11" descr=""/>
          <p:cNvPicPr/>
          <p:nvPr/>
        </p:nvPicPr>
        <p:blipFill>
          <a:blip r:embed="rId5"/>
          <a:stretch/>
        </p:blipFill>
        <p:spPr>
          <a:xfrm>
            <a:off x="719280" y="4078440"/>
            <a:ext cx="2590560" cy="2693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000" y="1339560"/>
            <a:ext cx="8567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Verdana"/>
              </a:rPr>
              <a:t>Public Group on Fragility and Crisis Situat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57200" y="1844640"/>
            <a:ext cx="4402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Verdana"/>
              </a:rPr>
              <a:t>Membership: 160+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members (MS, EU institutions, think-tanks, CSOs);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Verdana"/>
              </a:rPr>
              <a:t>Content: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 policy developments, support &amp; guidance, trainings &amp; workshops, additional resources;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Verdana"/>
              </a:rPr>
              <a:t>What for</a:t>
            </a:r>
            <a:r>
              <a:rPr b="0" lang="fr-BE" sz="1800" spc="-1" strike="noStrike">
                <a:solidFill>
                  <a:srgbClr val="ff0000"/>
                </a:solidFill>
                <a:latin typeface="Verdana"/>
              </a:rPr>
              <a:t>: </a:t>
            </a: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share your knowledge, get information, get in touch with practitioners in the field;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ff0000"/>
                </a:solidFill>
                <a:latin typeface="Verdana"/>
              </a:rPr>
              <a:t>Become a Member!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83" name="Picture 6" descr=""/>
          <p:cNvPicPr/>
          <p:nvPr/>
        </p:nvPicPr>
        <p:blipFill>
          <a:blip r:embed="rId1"/>
          <a:stretch/>
        </p:blipFill>
        <p:spPr>
          <a:xfrm>
            <a:off x="5102280" y="5445000"/>
            <a:ext cx="3816360" cy="1297080"/>
          </a:xfrm>
          <a:prstGeom prst="rect">
            <a:avLst/>
          </a:prstGeom>
          <a:ln w="22320">
            <a:solidFill>
              <a:srgbClr val="000000"/>
            </a:solidFill>
            <a:miter/>
          </a:ln>
        </p:spPr>
      </p:pic>
      <p:pic>
        <p:nvPicPr>
          <p:cNvPr id="684" name="Picture 8" descr=""/>
          <p:cNvPicPr/>
          <p:nvPr/>
        </p:nvPicPr>
        <p:blipFill>
          <a:blip r:embed="rId2"/>
          <a:stretch/>
        </p:blipFill>
        <p:spPr>
          <a:xfrm>
            <a:off x="0" y="3240"/>
            <a:ext cx="1476360" cy="98100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"/>
          <p:cNvPicPr/>
          <p:nvPr/>
        </p:nvPicPr>
        <p:blipFill>
          <a:blip r:embed="rId3"/>
          <a:stretch/>
        </p:blipFill>
        <p:spPr>
          <a:xfrm>
            <a:off x="5302080" y="1700280"/>
            <a:ext cx="3591000" cy="361944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 txBox="1"/>
          <p:nvPr/>
        </p:nvSpPr>
        <p:spPr>
          <a:xfrm>
            <a:off x="5076360" y="1844280"/>
            <a:ext cx="3816360" cy="34750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cxnSp>
        <p:nvCxnSpPr>
          <p:cNvPr id="687" name="Straight Arrow Connector 5"/>
          <p:cNvCxnSpPr/>
          <p:nvPr/>
        </p:nvCxnSpPr>
        <p:spPr>
          <a:xfrm>
            <a:off x="3348000" y="5660640"/>
            <a:ext cx="3888720" cy="86436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88" name="Straight Arrow Connector 9"/>
          <p:cNvCxnSpPr/>
          <p:nvPr/>
        </p:nvCxnSpPr>
        <p:spPr>
          <a:xfrm>
            <a:off x="3347640" y="5660640"/>
            <a:ext cx="4104360" cy="793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89" name="Straight Arrow Connector 11"/>
          <p:cNvCxnSpPr/>
          <p:nvPr/>
        </p:nvCxnSpPr>
        <p:spPr>
          <a:xfrm>
            <a:off x="3347640" y="5805360"/>
            <a:ext cx="2592720" cy="720000"/>
          </a:xfrm>
          <a:prstGeom prst="straightConnector1">
            <a:avLst/>
          </a:prstGeom>
          <a:ln w="0">
            <a:noFill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79280" y="1317240"/>
            <a:ext cx="818352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f5494"/>
                </a:solidFill>
                <a:latin typeface="Verdana"/>
              </a:rPr>
              <a:t>Learn4dev =Joint Competence Development Network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Rectangle 4"/>
          <p:cNvSpPr/>
          <p:nvPr/>
        </p:nvSpPr>
        <p:spPr>
          <a:xfrm>
            <a:off x="468360" y="2320920"/>
            <a:ext cx="799128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7640" indent="-285840">
              <a:spcAft>
                <a:spcPts val="1800"/>
              </a:spcAft>
              <a:buClr>
                <a:srgbClr val="0f5494"/>
              </a:buClr>
              <a:buSzPct val="64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Donors, working together to enhance their staff skills and competences and contribute to development effectiven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47640" indent="-285840">
              <a:spcAft>
                <a:spcPts val="1800"/>
              </a:spcAft>
              <a:buClr>
                <a:srgbClr val="0f5494"/>
              </a:buClr>
              <a:buSzPct val="64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Mutual opening of training, joint learning events, sharing of know-how, joint development of methodologies &amp; guidelin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marL="647640" indent="-285840">
              <a:spcAft>
                <a:spcPts val="1800"/>
              </a:spcAft>
              <a:buClr>
                <a:srgbClr val="0f5494"/>
              </a:buClr>
              <a:buSzPct val="64000"/>
              <a:buFont typeface="Wingding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Verdana"/>
                <a:ea typeface="Arial"/>
              </a:rPr>
              <a:t>Special focus on e-learning: Creation of Learning portal providing access to members' online learning conten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692" name="Picture 3" descr=""/>
          <p:cNvPicPr/>
          <p:nvPr/>
        </p:nvPicPr>
        <p:blipFill>
          <a:blip r:embed="rId1"/>
          <a:stretch/>
        </p:blipFill>
        <p:spPr>
          <a:xfrm>
            <a:off x="0" y="654372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4" descr=""/>
          <p:cNvPicPr/>
          <p:nvPr/>
        </p:nvPicPr>
        <p:blipFill>
          <a:blip r:embed="rId2"/>
          <a:stretch/>
        </p:blipFill>
        <p:spPr>
          <a:xfrm>
            <a:off x="542880" y="654048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8" descr=""/>
          <p:cNvPicPr/>
          <p:nvPr/>
        </p:nvPicPr>
        <p:blipFill>
          <a:blip r:embed="rId3"/>
          <a:stretch/>
        </p:blipFill>
        <p:spPr>
          <a:xfrm>
            <a:off x="1112760" y="652320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9" descr=""/>
          <p:cNvPicPr/>
          <p:nvPr/>
        </p:nvPicPr>
        <p:blipFill>
          <a:blip r:embed="rId4"/>
          <a:stretch/>
        </p:blipFill>
        <p:spPr>
          <a:xfrm>
            <a:off x="1655640" y="6550200"/>
            <a:ext cx="542880" cy="32364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10" descr=""/>
          <p:cNvPicPr/>
          <p:nvPr/>
        </p:nvPicPr>
        <p:blipFill>
          <a:blip r:embed="rId5"/>
          <a:stretch/>
        </p:blipFill>
        <p:spPr>
          <a:xfrm>
            <a:off x="2741760" y="6539040"/>
            <a:ext cx="571320" cy="29520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1" descr=""/>
          <p:cNvPicPr/>
          <p:nvPr/>
        </p:nvPicPr>
        <p:blipFill>
          <a:blip r:embed="rId6"/>
          <a:stretch/>
        </p:blipFill>
        <p:spPr>
          <a:xfrm>
            <a:off x="0" y="622476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12" descr=""/>
          <p:cNvPicPr/>
          <p:nvPr/>
        </p:nvPicPr>
        <p:blipFill>
          <a:blip r:embed="rId7"/>
          <a:stretch/>
        </p:blipFill>
        <p:spPr>
          <a:xfrm>
            <a:off x="2198520" y="6208560"/>
            <a:ext cx="543240" cy="31464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13" descr=""/>
          <p:cNvPicPr/>
          <p:nvPr/>
        </p:nvPicPr>
        <p:blipFill>
          <a:blip r:embed="rId8"/>
          <a:stretch/>
        </p:blipFill>
        <p:spPr>
          <a:xfrm>
            <a:off x="2762280" y="620568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4" descr=""/>
          <p:cNvPicPr/>
          <p:nvPr/>
        </p:nvPicPr>
        <p:blipFill>
          <a:blip r:embed="rId9"/>
          <a:stretch/>
        </p:blipFill>
        <p:spPr>
          <a:xfrm>
            <a:off x="3325680" y="621504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7" descr=""/>
          <p:cNvPicPr/>
          <p:nvPr/>
        </p:nvPicPr>
        <p:blipFill>
          <a:blip r:embed="rId10"/>
          <a:stretch/>
        </p:blipFill>
        <p:spPr>
          <a:xfrm>
            <a:off x="3844800" y="6529320"/>
            <a:ext cx="511200" cy="31428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19" descr=""/>
          <p:cNvPicPr/>
          <p:nvPr/>
        </p:nvPicPr>
        <p:blipFill>
          <a:blip r:embed="rId11"/>
          <a:stretch/>
        </p:blipFill>
        <p:spPr>
          <a:xfrm>
            <a:off x="569880" y="6208560"/>
            <a:ext cx="542880" cy="3416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" descr=""/>
          <p:cNvPicPr/>
          <p:nvPr/>
        </p:nvPicPr>
        <p:blipFill>
          <a:blip r:embed="rId12"/>
          <a:stretch/>
        </p:blipFill>
        <p:spPr>
          <a:xfrm>
            <a:off x="1085760" y="619272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5" descr=""/>
          <p:cNvPicPr/>
          <p:nvPr/>
        </p:nvPicPr>
        <p:blipFill>
          <a:blip r:embed="rId13"/>
          <a:stretch/>
        </p:blipFill>
        <p:spPr>
          <a:xfrm>
            <a:off x="1655640" y="6208560"/>
            <a:ext cx="542880" cy="31464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16" descr=""/>
          <p:cNvPicPr/>
          <p:nvPr/>
        </p:nvPicPr>
        <p:blipFill>
          <a:blip r:embed="rId14"/>
          <a:stretch/>
        </p:blipFill>
        <p:spPr>
          <a:xfrm>
            <a:off x="2198520" y="6554880"/>
            <a:ext cx="543240" cy="31428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8" descr=""/>
          <p:cNvPicPr/>
          <p:nvPr/>
        </p:nvPicPr>
        <p:blipFill>
          <a:blip r:embed="rId15"/>
          <a:stretch/>
        </p:blipFill>
        <p:spPr>
          <a:xfrm>
            <a:off x="3301920" y="6540480"/>
            <a:ext cx="542880" cy="3142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47" descr="cid:image001.png@01D029DF.4ADE41B0"/>
          <p:cNvPicPr/>
          <p:nvPr/>
        </p:nvPicPr>
        <p:blipFill>
          <a:blip r:embed="rId16"/>
          <a:stretch/>
        </p:blipFill>
        <p:spPr>
          <a:xfrm>
            <a:off x="4211640" y="6070680"/>
            <a:ext cx="831960" cy="5223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0" descr=""/>
          <p:cNvPicPr/>
          <p:nvPr/>
        </p:nvPicPr>
        <p:blipFill>
          <a:blip r:embed="rId17"/>
          <a:stretch/>
        </p:blipFill>
        <p:spPr>
          <a:xfrm>
            <a:off x="5456160" y="6453360"/>
            <a:ext cx="362160" cy="3538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2" descr=""/>
          <p:cNvPicPr/>
          <p:nvPr/>
        </p:nvPicPr>
        <p:blipFill>
          <a:blip r:embed="rId18"/>
          <a:stretch/>
        </p:blipFill>
        <p:spPr>
          <a:xfrm>
            <a:off x="7791480" y="64371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3" descr=""/>
          <p:cNvPicPr/>
          <p:nvPr/>
        </p:nvPicPr>
        <p:blipFill>
          <a:blip r:embed="rId19"/>
          <a:stretch/>
        </p:blipFill>
        <p:spPr>
          <a:xfrm>
            <a:off x="8232840" y="6453360"/>
            <a:ext cx="371520" cy="35532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24" descr=""/>
          <p:cNvPicPr/>
          <p:nvPr/>
        </p:nvPicPr>
        <p:blipFill>
          <a:blip r:embed="rId20"/>
          <a:stretch/>
        </p:blipFill>
        <p:spPr>
          <a:xfrm>
            <a:off x="6734160" y="6507000"/>
            <a:ext cx="476280" cy="29556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5" descr=""/>
          <p:cNvPicPr/>
          <p:nvPr/>
        </p:nvPicPr>
        <p:blipFill>
          <a:blip r:embed="rId21"/>
          <a:stretch/>
        </p:blipFill>
        <p:spPr>
          <a:xfrm>
            <a:off x="7380360" y="648828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1" descr=""/>
          <p:cNvPicPr/>
          <p:nvPr/>
        </p:nvPicPr>
        <p:blipFill>
          <a:blip r:embed="rId22"/>
          <a:stretch/>
        </p:blipFill>
        <p:spPr>
          <a:xfrm>
            <a:off x="4978440" y="6453360"/>
            <a:ext cx="428760" cy="39348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28" descr=""/>
          <p:cNvPicPr/>
          <p:nvPr/>
        </p:nvPicPr>
        <p:blipFill>
          <a:blip r:embed="rId23"/>
          <a:stretch/>
        </p:blipFill>
        <p:spPr>
          <a:xfrm>
            <a:off x="5823000" y="649296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0" descr=""/>
          <p:cNvPicPr/>
          <p:nvPr/>
        </p:nvPicPr>
        <p:blipFill>
          <a:blip r:embed="rId24"/>
          <a:stretch/>
        </p:blipFill>
        <p:spPr>
          <a:xfrm>
            <a:off x="8604360" y="6151680"/>
            <a:ext cx="380880" cy="68076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29" descr=""/>
          <p:cNvPicPr/>
          <p:nvPr/>
        </p:nvPicPr>
        <p:blipFill>
          <a:blip r:embed="rId25"/>
          <a:stretch/>
        </p:blipFill>
        <p:spPr>
          <a:xfrm>
            <a:off x="6234120" y="647064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26"/>
          <a:stretch/>
        </p:blipFill>
        <p:spPr>
          <a:xfrm>
            <a:off x="0" y="3240"/>
            <a:ext cx="1428840" cy="9810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3" descr=""/>
          <p:cNvPicPr/>
          <p:nvPr/>
        </p:nvPicPr>
        <p:blipFill>
          <a:blip r:embed="rId27"/>
          <a:stretch/>
        </p:blipFill>
        <p:spPr>
          <a:xfrm>
            <a:off x="0" y="1628640"/>
            <a:ext cx="4632480" cy="45770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2" descr=""/>
          <p:cNvPicPr/>
          <p:nvPr/>
        </p:nvPicPr>
        <p:blipFill>
          <a:blip r:embed="rId28"/>
          <a:stretch/>
        </p:blipFill>
        <p:spPr>
          <a:xfrm>
            <a:off x="4632480" y="1604880"/>
            <a:ext cx="45115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42472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f5494"/>
                </a:solidFill>
                <a:latin typeface="Verdana"/>
              </a:rPr>
              <a:t>   </a:t>
            </a:r>
            <a:br>
              <a:rPr sz="17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859280" y="2009520"/>
            <a:ext cx="410544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22" name="Picture 2" descr=""/>
          <p:cNvPicPr/>
          <p:nvPr/>
        </p:nvPicPr>
        <p:blipFill>
          <a:blip r:embed="rId1"/>
          <a:stretch/>
        </p:blipFill>
        <p:spPr>
          <a:xfrm>
            <a:off x="6804000" y="692280"/>
            <a:ext cx="2340000" cy="115236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9" descr=""/>
          <p:cNvPicPr/>
          <p:nvPr/>
        </p:nvPicPr>
        <p:blipFill>
          <a:blip r:embed="rId2"/>
          <a:stretch/>
        </p:blipFill>
        <p:spPr>
          <a:xfrm>
            <a:off x="0" y="984240"/>
            <a:ext cx="9144000" cy="5873760"/>
          </a:xfrm>
          <a:prstGeom prst="rect">
            <a:avLst/>
          </a:prstGeom>
          <a:ln w="15840">
            <a:solidFill>
              <a:srgbClr val="262626"/>
            </a:solidFill>
            <a:miter/>
          </a:ln>
        </p:spPr>
      </p:pic>
      <p:pic>
        <p:nvPicPr>
          <p:cNvPr id="724" name="Picture 8" descr=""/>
          <p:cNvPicPr/>
          <p:nvPr/>
        </p:nvPicPr>
        <p:blipFill>
          <a:blip r:embed="rId3"/>
          <a:stretch/>
        </p:blipFill>
        <p:spPr>
          <a:xfrm>
            <a:off x="0" y="3240"/>
            <a:ext cx="1476360" cy="98100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 txBox="1"/>
          <p:nvPr/>
        </p:nvSpPr>
        <p:spPr>
          <a:xfrm>
            <a:off x="457200" y="2491920"/>
            <a:ext cx="40384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133992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    </a:t>
            </a: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Who is involved?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5538960" y="2451240"/>
            <a:ext cx="2819160" cy="17287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8" descr=""/>
          <p:cNvPicPr/>
          <p:nvPr/>
        </p:nvPicPr>
        <p:blipFill>
          <a:blip r:embed="rId2"/>
          <a:stretch/>
        </p:blipFill>
        <p:spPr>
          <a:xfrm>
            <a:off x="0" y="3240"/>
            <a:ext cx="1476360" cy="98100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3" descr=""/>
          <p:cNvPicPr/>
          <p:nvPr/>
        </p:nvPicPr>
        <p:blipFill>
          <a:blip r:embed="rId3"/>
          <a:stretch/>
        </p:blipFill>
        <p:spPr>
          <a:xfrm>
            <a:off x="6815160" y="646200"/>
            <a:ext cx="1932120" cy="1322280"/>
          </a:xfrm>
          <a:prstGeom prst="rect">
            <a:avLst/>
          </a:prstGeom>
          <a:ln w="0">
            <a:noFill/>
          </a:ln>
        </p:spPr>
      </p:pic>
      <p:pic>
        <p:nvPicPr>
          <p:cNvPr id="730" name="Content Placeholder 3" descr=""/>
          <p:cNvPicPr/>
          <p:nvPr/>
        </p:nvPicPr>
        <p:blipFill>
          <a:blip r:embed="rId4"/>
          <a:stretch/>
        </p:blipFill>
        <p:spPr>
          <a:xfrm>
            <a:off x="2554200" y="4508640"/>
            <a:ext cx="4032360" cy="19666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8" descr=""/>
          <p:cNvPicPr/>
          <p:nvPr/>
        </p:nvPicPr>
        <p:blipFill>
          <a:blip r:embed="rId5"/>
          <a:stretch/>
        </p:blipFill>
        <p:spPr>
          <a:xfrm>
            <a:off x="1138320" y="2346480"/>
            <a:ext cx="37940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Past and ongoing initiativ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6840" y="1915920"/>
            <a:ext cx="8435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Pilot inter-agency workshop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n strenghening donor coordination in FCAS (9 – 13 September 2013, Brussels) with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UNDP, USAID, WB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;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0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Inter-agency workshop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n strengthening donor coordination in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DRC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2 - 4 June 2015, Kinshasa) with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Belgium Ministry of Foreign Affairs &amp; CTB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; 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00206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Inter-agency workshop 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on strengthening donor coordination in </a:t>
            </a: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fghanistan</a:t>
            </a:r>
            <a:r>
              <a:rPr b="0" lang="en-GB" sz="2200" spc="-1" strike="noStrike">
                <a:solidFill>
                  <a:srgbClr val="0f5494"/>
                </a:solidFill>
                <a:latin typeface="Verdana"/>
              </a:rPr>
              <a:t> (October 2015).</a:t>
            </a: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34" name="Picture 8" descr=""/>
          <p:cNvPicPr/>
          <p:nvPr/>
        </p:nvPicPr>
        <p:blipFill>
          <a:blip r:embed="rId1"/>
          <a:stretch/>
        </p:blipFill>
        <p:spPr>
          <a:xfrm>
            <a:off x="0" y="3240"/>
            <a:ext cx="1476360" cy="9810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3" descr=""/>
          <p:cNvPicPr/>
          <p:nvPr/>
        </p:nvPicPr>
        <p:blipFill>
          <a:blip r:embed="rId2"/>
          <a:stretch/>
        </p:blipFill>
        <p:spPr>
          <a:xfrm>
            <a:off x="6980400" y="798480"/>
            <a:ext cx="1785600" cy="1158840"/>
          </a:xfrm>
          <a:prstGeom prst="rect">
            <a:avLst/>
          </a:prstGeom>
          <a:ln w="0">
            <a:noFill/>
          </a:ln>
        </p:spPr>
      </p:pic>
      <p:pic>
        <p:nvPicPr>
          <p:cNvPr id="736" name="Content Placeholder 3" descr=""/>
          <p:cNvPicPr/>
          <p:nvPr/>
        </p:nvPicPr>
        <p:blipFill>
          <a:blip r:embed="rId3"/>
          <a:stretch/>
        </p:blipFill>
        <p:spPr>
          <a:xfrm>
            <a:off x="6156360" y="5516640"/>
            <a:ext cx="298764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4T09:56:14Z</dcterms:created>
  <dc:creator>KVETOVA Lenka (DEVCO)</dc:creator>
  <dc:description/>
  <dc:language>en-US</dc:language>
  <cp:lastModifiedBy>Viorel Haliciu</cp:lastModifiedBy>
  <cp:lastPrinted>2015-04-30T13:45:50Z</cp:lastPrinted>
  <dcterms:modified xsi:type="dcterms:W3CDTF">2015-05-20T05:49:15Z</dcterms:modified>
  <cp:revision>179</cp:revision>
  <dc:subject/>
  <dc:title>Staff handbook</dc:title>
</cp:coreProperties>
</file>